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7F68-A290-4E11-A028-D277B9C26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41B8D-32F9-4614-9D0D-92442685B1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4CF87-58E4-4892-98A3-58349351D0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7F63-67EB-47A7-B056-0FE3127BA7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DDFCC-F742-40E1-8524-E5D3E25588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3480-D051-406A-A135-D161D31B6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22EA4-798B-4631-B9BB-0494D4F4E7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60B84-8B63-47A4-8CB1-D6690566B5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E4E9D-DE01-43D8-8FAF-8C98F4EDF4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FDEE4-0999-4380-9E6A-CF7F181E8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7A1F-6814-4E92-882A-829500668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3603B-971D-4647-817C-B355D520B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9A9E6-CDDB-4431-8B5F-AC42E5DB43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3717-9D8F-42BC-B964-092DFA452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CB4FA-805B-46BB-B5A9-708730891A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D144B-028D-4F25-9CDB-5B9503C63F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86711-0173-4314-9ACE-839E2A405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2FDF-AD42-48F2-92C9-1ADC0BBFB4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54E62-DECB-4AEE-AD34-8545F97E1E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EABF-E754-47B8-B3F3-7CD589BB64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BC4F7F-1227-4732-AACC-5A3B680C1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82DD8-EFDE-434F-87EA-2F67ACFDC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599CD-E740-42B6-85B9-A1D1CC0E4D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9BB41-2E43-4213-A67E-2837B6E9D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A3437C-61B1-48C6-A10B-69E1BD0E2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609C2E-861C-4189-8A4B-0FD3C4191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26DF82-B4AA-4CC2-81FF-4DCB3EE7D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2138E-C5B2-4D07-8A87-C2FC1700D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AD0C5-426F-4F7E-A9D3-FB9657306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46113-83E8-4C56-9069-E40951759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8A583-35F2-43EB-A787-DD53E0606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28F10-7767-476E-AFD0-C4EA286D5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DB6C-245B-459B-AF1A-2BE788CDD4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Mike Hasley</cp:lastModifiedBy>
  <dcterms:modified xsi:type="dcterms:W3CDTF">2009-05-22T17:29:13Z</dcterms:modified>
  <cp:revision>119</cp:revision>
  <dc:subject/>
  <dc:title>Wikispaces for Teachers A guide to using them in your classroom</dc:title>
</cp:coreProperties>
</file>